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907-2C1A-47E1-BB8B-3298B17311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67F8-2A72-42BB-8F1F-35BDBEF5C1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7DD-4BA3-45AB-B402-F889E1F4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13B-BBF5-4127-BA1E-3792D420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99A-C2C1-4705-9974-9AC9E82D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DA2-81C9-4A53-87CA-22209043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0A7-C060-4D3E-A99D-3F71D92C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415-8B59-4AA4-BE09-8EEF31CC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1E6-0BD1-4385-80D9-B23304FF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105-3021-4371-A192-013A64CE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3ED-3C16-4CED-ADF9-15763865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D12-4C5B-4995-8457-23FA1AB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784-A015-469B-95BB-1FFA57F4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2D0-F004-4777-AB0A-6D46B37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598F-0F0A-4F68-94A7-D52957C3B16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-27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652320"/>
                <a:gridCol w="846000"/>
                <a:gridCol w="790560"/>
                <a:gridCol w="736920"/>
                <a:gridCol w="5148000"/>
                <a:gridCol w="395280"/>
              </a:tblGrid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لاحظات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سیار مشاهده 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گاهی اوقات مشاهده 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یچوقت مشاهده ن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شور و شو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یانی رسا دار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زمان آموزش، لبخند می ز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بیانش احترام به مخاطب مشاهده می شو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موقعیت پیش آمده، احساسات مناسبی را نشان می ده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گاهی اوقات در کلاس هنگام آموزش حرکت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زبان بدن او با احساسات مناسب است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نظر می رسد در کلاس راحت و آرام است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طور مداوم از روی مطالب نمی خوان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سوالات به طور کامل پاسخ می ده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یا شیوه هایی که موجب عدم تمرکز نشود، عادتهای خاص خود را کنترل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476280"/>
          <a:ext cx="8353440" cy="5905440"/>
        </p:xfrm>
        <a:graphic>
          <a:graphicData uri="http://schemas.openxmlformats.org/drawingml/2006/table">
            <a:tbl>
              <a:tblPr/>
              <a:tblGrid>
                <a:gridCol w="920880"/>
                <a:gridCol w="974520"/>
                <a:gridCol w="855720"/>
                <a:gridCol w="865080"/>
                <a:gridCol w="4351320"/>
                <a:gridCol w="385920"/>
              </a:tblGrid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لاحظات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سیار مشاهده 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گاهی اوقات مشاهده 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یچوقت مشاهده ن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حتو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ز امکانات تصویری در کلاس استفاده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ثالهای مناسب به کار می بر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حتوا را به دانش پیشین ربط می ده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طلاعات را به دنیای واقعی ربط می ده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یادگیرندگان را به زاویه نگاههای مختلف مشارکت می دهد و تشویق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تفکر دانش آموزان را تحریک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ز اطلاعات به روز استفاده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تکالیف را به اهداف دوره یا جلسه مرتبط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ین واقعیت و عقیده تمایز قائل می شو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5280" y="189000"/>
          <a:ext cx="8497800" cy="6503760"/>
        </p:xfrm>
        <a:graphic>
          <a:graphicData uri="http://schemas.openxmlformats.org/drawingml/2006/table">
            <a:tbl>
              <a:tblPr/>
              <a:tblGrid>
                <a:gridCol w="727200"/>
                <a:gridCol w="736560"/>
                <a:gridCol w="807840"/>
                <a:gridCol w="682920"/>
                <a:gridCol w="5151240"/>
                <a:gridCol w="392040"/>
              </a:tblGrid>
              <a:tr h="4906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لاحظات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سیار مشاهده شده است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گاهی اوقات مشاهده شده است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یچوقت مشاهده نشده است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تعام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به منظور دادن پاسخ به سوالات یا کاربرد سوالات پژوهشی، دانش آموز را تشویق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ز راهبرد های مختلف در کلاس درس استفاد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را برای مشارکت در کلاس درس ترغیب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ز کل کلاس سوال می پرس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سوالات دانش آموزان به وضوح و کامل پاسخ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ان را به پاسخ دادن سوالات یکدیگر تشویق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رای پاسخ دادن به سوالات دشوار، دانش آموزان را با راهنمایی ترغیب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3952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شتباه یا دانش ناکافی خود را می­پذیرد. (مثلا؛ برای یافتن اطلاعات درست و معتبر روش های یا منابع مختلفی را پیشنهاد می­کند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نظرات مختلف احترام می گذارد (تشویق /  احترا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یده ها و نظرات دانش آموزان را در کلاس درس ترکیب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را در زمان اشتباه و خطا راهنمایی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زخورد های اصلاحی و مکرر به دانش آموزان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تفاوت های فردی دانش آموزان توجه می کند.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ان را به مشارکت فعال در کلاس درس تشویق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را به هدایت بحث و گفتگو در کلاس ترغیب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سوالاتی در سطوح مختلف یادگیری از دانش آموزان می پرس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981000"/>
          <a:ext cx="8207280" cy="5153040"/>
        </p:xfrm>
        <a:graphic>
          <a:graphicData uri="http://schemas.openxmlformats.org/drawingml/2006/table">
            <a:tbl>
              <a:tblPr/>
              <a:tblGrid>
                <a:gridCol w="757080"/>
                <a:gridCol w="725760"/>
                <a:gridCol w="753840"/>
                <a:gridCol w="790560"/>
                <a:gridCol w="4800600"/>
                <a:gridCol w="379440"/>
              </a:tblGrid>
              <a:tr h="122436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لاحظات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سیار مشاهده 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گاهی اوقات مشاهده 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یچوقت مشاهده ن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تأم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کلاس، دانش آموزان عجول به نظر نمی رس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قبل از آنکه وارد مبحث بعدی شود، میزان درک دانش آموزان را کنترل می ک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موضوعات درسی به طور متعادل می پرداز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گیر مسائل نامربوط و حاشیه ای نمی شو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ان زمان کافی برای انجام تکالیف دارند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53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95280" y="765000"/>
          <a:ext cx="8280360" cy="5472360"/>
        </p:xfrm>
        <a:graphic>
          <a:graphicData uri="http://schemas.openxmlformats.org/drawingml/2006/table">
            <a:tbl>
              <a:tblPr/>
              <a:tblGrid>
                <a:gridCol w="790560"/>
                <a:gridCol w="982800"/>
                <a:gridCol w="947520"/>
                <a:gridCol w="865440"/>
                <a:gridCol w="4311360"/>
                <a:gridCol w="382680"/>
              </a:tblGrid>
              <a:tr h="122436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ملاحظات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بسیار مشاهده 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گاهی اوقات مشاهده 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هیچوقت مشاهده نش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                              صحبت کرد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تن صدای قابل قبولی صحبت می کن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واضح صحبت می کند( زیرلبی یا مبهم صحبت نمی کند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نه خیلی سریع و نه بیش از حد ارام صحبت می کن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شیوه ای رسا صحبت می کند( لحن صحبت او یکنواخت نیست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ژستهای مناسبی هنگام صحبت کردن دار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تماس چشمی با دانش آموزان  را حفظ می کن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احترام صحبت می کند و سعی می کند بیان او تسهیل کننده یادگیری باش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وقعی که مطلبی دشوار است، به آرامی و وضوح صحبت می کن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306360"/>
          <a:ext cx="8642160" cy="6307200"/>
        </p:xfrm>
        <a:graphic>
          <a:graphicData uri="http://schemas.openxmlformats.org/drawingml/2006/table">
            <a:tbl>
              <a:tblPr/>
              <a:tblGrid>
                <a:gridCol w="612720"/>
                <a:gridCol w="709560"/>
                <a:gridCol w="625320"/>
                <a:gridCol w="608040"/>
                <a:gridCol w="5688000"/>
                <a:gridCol w="398520"/>
              </a:tblGrid>
              <a:tr h="857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ملاحظات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بسیار مشاهده شده است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گاهی اوقات مشاهده شده است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هیچوقت مشاهده نشده است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ارتبا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با تشویق  به دانش آموز بازخورد می ده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را به مشارکت و تفکر کردن، ترغیب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نظرات و مشارکت های دانش آموزان واکنش (پاسخ) سازنده می ده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نظرات مختلف را بعد از گوش دادن، تشویق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کلاس درس جوی دوستانه و صمیمی برقرار است. (مثلا، دانش آموزان آزادانه  اظهار نظر می کنند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سعه صدر و احترام به اشتباهات و سردرگمی (سوالات) دانش آموزان پاسخ می دهد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رفتار منصفانه ای با همه دانش آموزان در کلاس درس دارد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دقت به سوالات یا نظرات دانش آموزان گوش فرا می ده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حین تدریس به تفاوت های فردی دانش آموزان توجه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ان را به احترام متقابل، صداقت و درستی در کلاس درس ترغیب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طور موثر به حواس پرتی دانش آموزان واکنش نشان می ده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نتقاد سازنده را در کلاس درس مورد تشویق قرار می ده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شتباهات و خطای خود را با صداقت می پذیر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زخورد معلم در کلاس درس سازنده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457200" algn="just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کلاس های </a:t>
                      </a: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30</a:t>
                      </a: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نفر یا کمتر دانش آموزان را با نام کوچک مورد خطاب قرار می ده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قبل یا بعد از کلاس درس با دانش آموزان رابطه صمیمی و دوستانه ای دار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ساعت های خارج از کلاس درس جهت رفع مشکلات دانش آموزان در دسترس است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2077920" y="19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2077920" y="19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235080"/>
          <a:ext cx="8642160" cy="6362640"/>
        </p:xfrm>
        <a:graphic>
          <a:graphicData uri="http://schemas.openxmlformats.org/drawingml/2006/table">
            <a:tbl>
              <a:tblPr/>
              <a:tblGrid>
                <a:gridCol w="642960"/>
                <a:gridCol w="652320"/>
                <a:gridCol w="635040"/>
                <a:gridCol w="709560"/>
                <a:gridCol w="5603760"/>
                <a:gridCol w="398520"/>
              </a:tblGrid>
              <a:tr h="875160">
                <a:tc>
                  <a:txBody>
                    <a:bodyPr lIns="59760" rIns="59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ملاحظات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بسیار مشاهده 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گاهی اوقات مشاهده 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هیچوقت مشاهده ن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راهبردهای آموز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شارکت دانش آموزان را تشویق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باحث مشکل را با شیوه های متفاوت آموزش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فعالیتهای متنوعی در کلاس درس استفاد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نمونه ها، اطلاعات، مثالها و ارائه های مختلفی از محتوا تهی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ز رسانه های گوناگون در کلاس استفاد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روشهای خود با توجه به میزان توجه دانش آموزان، انعطاف دار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طالب جالب و هیجان انگیز برای محتوای آموزشی فراهم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راهبرد به کار گرفته او برای آموزش این درس مؤثر است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طالب ارائه شده، از کیفیت کافی برای آموزش مفهوم برخوردار هست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فرصتهایی برای کاربردی کردن مطالب در اختیار دانش آموزان می گذارد( مانند مسئله، مطالعه موردی، طرح نمونه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طالب جدید، ایده های نو و نظریه های جدید را با  محتوای آموزشی مرتبط می کند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ز محتوای مکتوب استفاد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حتوا را به مفاهیم گذشته و آینده مرتبط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حتوا را به تکالیف مرتبط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سؤالاتی برای جلب توجه دانش آموزان مطرح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فرصتی برای پاسخ دادن به سوالات ، در نظر می گیر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2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ان به طور مداوم درگیر یادگیری هستند( گوش کردن، صحبت کردن، فعالیت و بحث کلاسی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وانع تمرکز حواس را کاهش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ffffff"/>
                          </a:solidFill>
                          <a:latin typeface="Tahoma"/>
                          <a:ea typeface="2  Koodak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88" name="Rectangle 1"/>
          <p:cNvSpPr/>
          <p:nvPr/>
        </p:nvSpPr>
        <p:spPr>
          <a:xfrm>
            <a:off x="1893960" y="183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077920" y="19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1893960" y="183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1640" y="404640"/>
          <a:ext cx="7632720" cy="6120000"/>
        </p:xfrm>
        <a:graphic>
          <a:graphicData uri="http://schemas.openxmlformats.org/drawingml/2006/table">
            <a:tbl>
              <a:tblPr/>
              <a:tblGrid>
                <a:gridCol w="1535040"/>
                <a:gridCol w="1211400"/>
                <a:gridCol w="4268520"/>
                <a:gridCol w="617760"/>
              </a:tblGrid>
              <a:tr h="49824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درصد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فراوان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قوله  مشاهده با محور رفتار معلم و دانش آموز( اقتباس از جدول </a:t>
                      </a: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، گال ، بورگ و گال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کد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تشویق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116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بازخورد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80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از نظریات دانش آموز استفاد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سوال می پرس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116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صحبت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80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اشتباه دانش آموز را تصحیح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سرنخهایی ارائ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80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به سوال پاسخ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راهنمایی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116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دانش آموز را مورد انتقاد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80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دانش آموز پاسخ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دانش آموز با صدای بلند می خوا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116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بی صدا می خوا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80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دانش آموز خلاص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صحبت را شروع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116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سکوت و سر در گمی در کلاس هس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116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تکلیف نوشتنی را انجام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از رایانه استفاد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80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جزوه توزیع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9440"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یا دانش آموز روی تخته می نویس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077920" y="19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893960" y="183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404640"/>
          <a:ext cx="8136000" cy="6048720"/>
        </p:xfrm>
        <a:graphic>
          <a:graphicData uri="http://schemas.openxmlformats.org/drawingml/2006/table">
            <a:tbl>
              <a:tblPr/>
              <a:tblGrid>
                <a:gridCol w="950760"/>
                <a:gridCol w="1121040"/>
                <a:gridCol w="5011560"/>
                <a:gridCol w="1052640"/>
              </a:tblGrid>
              <a:tr h="59400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درصد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فراوان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قوله( فرم </a:t>
                      </a: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مشاهده. با محور رفتار معلم در کلاس (  فرم ترکیبی کمی و کیفی)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ک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از نظر دانش آموزان استفاد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سوال می پرس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صحبت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اشتباه دانش آموز را تصحیح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سرنخهایی ارائ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به سوال پاسخ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راهنمایی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دانش آموز را مورد انتقاد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دانش آموز پاسخ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54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دانش آموز با صدای بلند می خوا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بی صدا می خوا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دانش اموز نقاشی می کش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ea typeface="2  Koodak"/>
                        </a:rPr>
                        <a:t> دانش آموز خلاص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صحبت را شروع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سکوت و سر در گمی در کلاس هس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58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انش آموز تکلیف نوشتنی را انجام می ده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از رایانه استفاده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جزوه توزیع می کن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764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یا دانش آموز روی تخته می نویس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077920" y="19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893960" y="183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333360"/>
          <a:ext cx="8064360" cy="5892840"/>
        </p:xfrm>
        <a:graphic>
          <a:graphicData uri="http://schemas.openxmlformats.org/drawingml/2006/table">
            <a:tbl>
              <a:tblPr/>
              <a:tblGrid>
                <a:gridCol w="3477960"/>
                <a:gridCol w="4586400"/>
              </a:tblGrid>
              <a:tr h="112140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سوالات بعد از پایان جلسه مشاهده( این فرم در همان روز مشاهده باید تکمیل شود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معلم چگونه درس را آغاز می کن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آیا معلم به همه دانش اموزان توجه دار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آیا معلم به نظرات همه دانش آموزان توجه می کن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آیا او نسبت به دانش آموزان قوی و ضعیف سو گیری دار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آیا معلم به تفاوتهای فردی یادگیرندگان توجه می کن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آیا معلم در مورد مسائل دانش اموزان قضاوت می کن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آیا روشهای آموزش که معلم انتخاب می کند، دانش آموزان را بر می انگیزان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معلم بیشتر نقش راهنما دارد یا کنترل کننده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کیفیت تکالیفی که معلم به دانش آموزان می دهد چگونه است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آیا معلم به ارزشیابی یادگیرندگان توجه دارد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Koodak"/>
                        </a:rPr>
                        <a:t>کیفیت پرسش و پاسخها چگونه است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1638360" y="240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  <a:cs typeface="2  Homa"/>
              </a:rPr>
              <a:t>عنوان دوره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ahoma"/>
                <a:cs typeface="2  Homa"/>
              </a:rPr>
              <a:t>طرح کارگاه آموزش مدرسان کارورز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ahoma"/>
                <a:cs typeface="2  Homa"/>
              </a:rPr>
              <a:t>شهریور </a:t>
            </a:r>
            <a:r>
              <a:rPr b="1" lang="fa-IR" sz="4800" spc="-1" strike="noStrike">
                <a:solidFill>
                  <a:srgbClr val="ffffff"/>
                </a:solidFill>
                <a:latin typeface="Tahoma"/>
                <a:ea typeface="2  Homa"/>
              </a:rPr>
              <a:t>139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18920" y="1971360"/>
            <a:ext cx="532908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ffffff"/>
                </a:solidFill>
                <a:latin typeface="Tahoma"/>
                <a:cs typeface="2  Koodak"/>
              </a:rPr>
              <a:t>درپناه خدا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2" descr="C:\Users\Karen Ardley\AppData\Local\Microsoft\Windows\Temporary Internet Files\Content.IE5\ODZ01FXC\MP900433057[1].jpg"/>
          <p:cNvPicPr/>
          <p:nvPr/>
        </p:nvPicPr>
        <p:blipFill>
          <a:blip r:embed="rId1"/>
          <a:stretch/>
        </p:blipFill>
        <p:spPr>
          <a:xfrm>
            <a:off x="1764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ffff"/>
                </a:solidFill>
                <a:latin typeface="Tahoma"/>
                <a:ea typeface="B Nazanin"/>
              </a:rPr>
              <a:t>‏مهارت های مربی‏گر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1447920"/>
            <a:ext cx="7162560" cy="4776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3324240" y="168588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  <a:cs typeface="B Nazanin"/>
              </a:rPr>
              <a:t>ایجاد ارتبا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373120" y="304812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ahoma"/>
                <a:cs typeface="B Nazanin"/>
              </a:rPr>
              <a:t>مهارت های مربی‏گر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693040" y="251460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  <a:cs typeface="B Nazanin"/>
              </a:rPr>
              <a:t>گوش داد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4876560" y="434340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  <a:cs typeface="B Nazanin"/>
              </a:rPr>
              <a:t>سئوال کرد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1336680" y="4191120"/>
            <a:ext cx="221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  <a:cs typeface="B Nazanin"/>
              </a:rPr>
              <a:t>ا</a:t>
            </a:r>
            <a:r>
              <a:rPr b="1" lang="fa-IR" sz="2800" spc="-1" strike="noStrike">
                <a:solidFill>
                  <a:srgbClr val="ffffff"/>
                </a:solidFill>
                <a:latin typeface="Tahoma"/>
                <a:cs typeface="B Nazanin"/>
              </a:rPr>
              <a:t>نعکاس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  <a:cs typeface="B Nazanin"/>
              </a:rPr>
              <a:t>دلگرم کنن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371600" y="2590920"/>
            <a:ext cx="11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  <a:cs typeface="B Nazanin"/>
              </a:rPr>
              <a:t>بازخور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-487440" y="-171360"/>
            <a:ext cx="99662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95280" y="1646280"/>
            <a:ext cx="8291520" cy="4735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82000"/>
          </a:bodyPr>
          <a:p>
            <a:pPr marL="281160" indent="-281160" algn="just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ahoma"/>
                <a:cs typeface="B Nazanin"/>
              </a:rPr>
              <a:t>به ظاهر گوش دادن: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Nazanin"/>
              </a:rPr>
              <a:t>به نظر می رسد که من گوش می دهم. ولی گوش نمی دهم. ذهنم جای دیگری است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ahoma"/>
                <a:cs typeface="B Nazanin"/>
              </a:rPr>
              <a:t>گوش دادن مکالمه ای: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Nazanin"/>
              </a:rPr>
              <a:t>من در بحث شرکت می کنم. من گوش می دهم و صحبت می کنم. فکر می کنم و.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ahoma"/>
                <a:cs typeface="B Nazanin"/>
              </a:rPr>
              <a:t>گوش دادن فعال: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Nazanin"/>
              </a:rPr>
              <a:t>من به شدت بر چیزی که شما می گویید تمر کز می کنم. حقایق را ثبت می کنم  و توجه می کن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ahoma"/>
                <a:cs typeface="B Nazanin"/>
              </a:rPr>
              <a:t>گوش دادن عمیق: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Nazanin"/>
              </a:rPr>
              <a:t>من کاملاً روی شما و سئوال تمرکز می کنم. من باید از شما بپرسم تا آگاه تر شده و بتوانم برای حل مسئله به شما کمک کن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7200" y="596880"/>
            <a:ext cx="8229600" cy="1708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2"/>
          <a:stretch/>
        </p:blipFill>
        <p:spPr>
          <a:xfrm>
            <a:off x="158760" y="2097000"/>
            <a:ext cx="874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Tahoma"/>
              </a:rPr>
              <a:t>بنام خدا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2108160"/>
          <a:ext cx="8569080" cy="4500720"/>
        </p:xfrm>
        <a:graphic>
          <a:graphicData uri="http://schemas.openxmlformats.org/drawingml/2006/table">
            <a:tbl>
              <a:tblPr/>
              <a:tblGrid>
                <a:gridCol w="763560"/>
                <a:gridCol w="782640"/>
                <a:gridCol w="615960"/>
                <a:gridCol w="901440"/>
                <a:gridCol w="5162760"/>
                <a:gridCol w="342720"/>
              </a:tblGrid>
              <a:tr h="8751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لاحظات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سیار مشاهده 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گاهی اوقات مشاهده 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یچوقت مشاهده نشده است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سازمانده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زودتر از زمان شروع کلاس وارد کلاس می شود( ممکن است با یادیگرندگان قبل از شروع کلاس گفتگو کند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کلاس در زمان مشخص و با شیوه ای سازمان یافته آغاز می شو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علم مواد آموزشی و یا اطلاعات لازم را قبل از شروع کلاس حاضر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یادگیرندگان را در جریان رئوس مطالب یا طرح درس قرار می ده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وضوح اهداف کلی و ضرورت آن اهداف و یا فعالیتها را بیان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وضوعات مربوط به درس را برای آماده کردن کلاس مرور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در اجرای برنامه انعطاف دارد و در صورت لزوم، به اصلاح بدفهمی های درس گذشته می پرداز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کلاس را به موقع تمام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رای یادگیرندگان، تکالیف مشخصی انتخاب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51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نکات اصلی درس را در پایان کلاس خلاصه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96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سخنرانی اش سازمان یافته است و دانش آموزان می توانند به خوبی یادداشت برداری کن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50280"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یزان فهمیدن دانش آموزان را دائماً کنترل می کند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3"/>
          <p:cNvSpPr/>
          <p:nvPr/>
        </p:nvSpPr>
        <p:spPr>
          <a:xfrm>
            <a:off x="250920" y="80280"/>
            <a:ext cx="8569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ffffff"/>
                </a:solidFill>
                <a:latin typeface="Tahoma"/>
                <a:cs typeface="2  Homa"/>
              </a:rPr>
              <a:t>فرم مشاهده کلاس در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Tahoma"/>
                <a:cs typeface="2  Homa"/>
              </a:rPr>
              <a:t>نام معلم: .....................                                             تاریخ: ...................                        مدرسه.....................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Tahoma"/>
                <a:cs typeface="2  Homa"/>
              </a:rPr>
              <a:t>درس:.....................                                            مشاهده گر: .................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2  Homa"/>
              </a:rPr>
              <a:t>این فرم ، فهرستی از رفتارهای مؤثر در فرایند آموزش است که امکان دارد در کلاس رخ دهد. این فرم می تواند به عنوان یک فهرست راهنما برای مشاهده – و نه الزامات فرایند تدریس، مورد استفاده قرار بگیرد. پیشنهاد می شود مشاهده گراین فهرست را قبل از مشاهده به عنوان مبنایی برای بحث و انتخاب مواردی که قرار است بر روی آن متمرکز شود، در نظر بگیرد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458640"/>
          <a:ext cx="8209080" cy="5994720"/>
        </p:xfrm>
        <a:graphic>
          <a:graphicData uri="http://schemas.openxmlformats.org/drawingml/2006/table">
            <a:tbl>
              <a:tblPr/>
              <a:tblGrid>
                <a:gridCol w="749520"/>
                <a:gridCol w="662040"/>
                <a:gridCol w="715680"/>
                <a:gridCol w="801720"/>
                <a:gridCol w="4900680"/>
                <a:gridCol w="379440"/>
              </a:tblGrid>
              <a:tr h="631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لاحظات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سیار مشاهده شده است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گاهی اوقات مشاهده شده است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یچوقت مشاهده نشده است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وضوح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نمونه هایی از هر مفهوم آماد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استفاده از مثالهای ملموس توضیح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ا تعاریف ملموس، مفاهیم نا آشنا یا مشکل را توضیح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روابط بین نظریه ها، موضوعات، و واقعیتها را روشن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طلاعات ( مفاهیم ناآشنا) را به چالش می کشا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ر روی پاسخ سوالات تمرکز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سازماندهی شده و واضح روی تخته می نویس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سوالهای دانش آموزان را طوری تکرار می کند که همه دانش آموزان بشنو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فاهیم، تئوریها و واژه ها را به طریق­های گوناگون توضیح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980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ر روی نکات مهم با بالا بردن صدا، مکث کردن یا آرام صحبت کردن، تأکید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ز تصاویر همراه با توضیحات بهره می بر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کاربرد عملی مطالب توج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ه سوالات به طور کامل پاسخ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نکات مشکل را در کلاس به شراکت می گذار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مطالب را به زبان ساده توضیح می ده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برای دانش آموزان نمونه های سوال تهیه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9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3366"/>
                          </a:solidFill>
                          <a:latin typeface="Tahoma"/>
                          <a:cs typeface="2  Koodak"/>
                        </a:rPr>
                        <a:t>انتظارات از تکالیف و ازمونها را به روشنی بیان می کند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r>
                        <a:rPr b="1" lang="fa-IR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3"/>
          <p:cNvSpPr/>
          <p:nvPr/>
        </p:nvSpPr>
        <p:spPr>
          <a:xfrm>
            <a:off x="167940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0:03:56Z</dcterms:created>
  <dc:creator>Dear User!</dc:creator>
  <dc:description/>
  <dc:language>en-US</dc:language>
  <cp:lastModifiedBy>ismail - [2010]</cp:lastModifiedBy>
  <dcterms:modified xsi:type="dcterms:W3CDTF">2014-09-17T20:50:21Z</dcterms:modified>
  <cp:revision>43</cp:revision>
  <dc:subject/>
  <dc:title>Slide 1</dc:title>
</cp:coreProperties>
</file>